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2A6-95CC-40D0-A352-FF0F4366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550-6195-47B1-AAA3-A4FAB6AE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50C-D629-4921-97B5-F4DCC140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650-9F23-4769-B155-537AA430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B91-6632-4F31-84D9-0223193A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355-8A88-47AD-AB31-8AE5370B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F52-1FEA-4FBE-BA2E-89C1FF47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B0A-4CC1-4C8D-8995-E92BADF8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1C1-0739-4AC8-9D2D-01895E0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0B9-7EFA-4033-B226-8BA3F0E9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639-7D26-444C-A6F9-72E433DC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FC4-BCBF-4D26-8DE3-ABA443AA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D40F-24A6-4B92-B36E-09447D3A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mar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be3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447920"/>
            <a:ext cx="7239240" cy="30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&amp;M'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4572000"/>
            <a:ext cx="2590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la Mu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15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523880" cy="129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7320" y="495288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 E. Mars, S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152280"/>
            <a:ext cx="5181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: Free Play Music, Hope Alive, Sept. 23, 2011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34340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2e098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ars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93840" y="438300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96252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6360" y="4267080"/>
            <a:ext cx="645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&amp;M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. 19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mar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2760" y="304920"/>
            <a:ext cx="61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 E. Mars, Sr. put a coating on M&amp;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chocolate doesn’t melt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orrest E. Mars, S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rest E. Mars was born on March 21, 190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built a chocolate candy emp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s set up a small candy factory in Eng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died on July 1, 1814, at the age of 9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2e098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M’s has a coating around it so it prevents the chocolate from melting. (“Melt in your mouth, not in your hand.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ndy was originally sold in paper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50, the company began imprinting a “ m” on each candy to inform customers they were getting the original ca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M’s were the official candy at the 1984 Olympics in Los Ang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ime of Mars’s death, M&amp;M’s estimated $4 billion of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M’s/Mars employs 30,00 worldwide with sales of more than $20 billion per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27Z</dcterms:created>
  <dc:creator>install</dc:creator>
  <dc:description/>
  <dc:language>en-US</dc:language>
  <cp:lastModifiedBy>install</cp:lastModifiedBy>
  <dcterms:modified xsi:type="dcterms:W3CDTF">2011-09-26T13:56:35Z</dcterms:modified>
  <cp:revision>9</cp:revision>
  <dc:subject/>
  <dc:title>Slide 1</dc:title>
</cp:coreProperties>
</file>